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741"/>
            </a:gs>
            <a:gs pos="100000">
              <a:srgbClr val="230fa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Untitled-1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"/>
          <p:cNvSpPr/>
          <p:nvPr/>
        </p:nvSpPr>
        <p:spPr>
          <a:xfrm>
            <a:off x="324000" y="2333520"/>
            <a:ext cx="8496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Лекция 8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Text Box 8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ПД Институт права и упра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ссистент С.С.Никифоро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Прямоугольник 4"/>
          <p:cNvSpPr/>
          <p:nvPr/>
        </p:nvSpPr>
        <p:spPr>
          <a:xfrm>
            <a:off x="738360" y="3105000"/>
            <a:ext cx="7995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Организация документооборот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Исходящий документопоток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стоит из документов, создаваемых в данной организации и отправляемых за ее пределы. Исходящие документы могут создаваться как инициативные документы (требующие или не требующие ответа) или как ответные на поступившие письменные или устные запросы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Внутренний документопоток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128600"/>
            <a:ext cx="822960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оставляют документы, не выходящие за пределы организации. Происхождение документов совпадает со сферой их применения: они создаются и обеспечивают целенаправленное решение управленческих задач в пределах одного учреждения, организац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 внутренним, прежде всего, относятся организационные документы, определяющие задачи, функции организации в целом, а также ее структурных подразделений, компетенцию, права и обязанности должностных лиц, правила выполнения отдельных видов деятельности — положения, уставы, учредительные договоры, должностные инструкции, регламен­ы, правила, штатные расписания и др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Функцию оперативного регулирования деятельности учреждений выполняют распорядительные документы, издаваемые руководством, — приказы, указания, распоряжения, решения. Самостоятельные группы внутреннего документопотока составляют протоколы и акты, плановые и отчетные документы, документы по учету материальных и денежных средств, оборудования, личного состава и т. д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практике деятельности современных организаций широкое распространение получила внутренняя переписка. Она оформляется, в основном, докладными (служебными) и объяснительными записками, которые составляют отдельную группу внутренней документац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Учет документооборота позволяет: 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42056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ределить загрузку организации в целом, ее структурных подразделений и отдельных исполнителей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ределить соответствие маршрутов движения тех или иных документов задачам и функциям структурных подразделений или должностных лиц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работать мероприятия по совершенствованию процессов обработки документов в целом или их отдельных операций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становить оптимальное количество информации, необходимой и достаточной для функционирования аппарата управления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ссчитать численность службы делопроизводств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Вопросы для самопроверки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Дайте определение понятия «документооборот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Перечислите основные требования к организации документооборота в учреждения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Назовите правила учета документооборо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Рекомендуемая литература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64960"/>
            <a:ext cx="8229600" cy="56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  Делопроизводство (Организация и технологии документационного обеспечения управления): Учебник для студ. вузов / Т.В. Кузнецова, Л.В. Санкина, Т.А. Быкова и др.; Под ред. Т.В. Кузнецовой.—М.: ЮНИТИ-ДАНА: 2007.—359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2.    Делопроизводство: Учебник для студ. вузов, обуч. по спец. 350800 «Документоведение и докум. обеспечение управления» / Г.Ю. Максимович, Т.А. Быкова, Л.М. Вялова, Л.В. Санкина; Под ред. Т.В. Кузнецовой. – М.: Изд-во МЦФЭР: 2008. – 544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Белов А.А., Белов А.Н. Делопроизводство и документооборот. – М.: Кн. мир: 2008.– 340 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ирсанова М.В. Курс делопроизводства : Документационное обеспечение управления / М. В. Кирсанова, Ю. М. Аксенов ; Новосиб. гос. ун-т экономики и управления, Администрация Президента РФ, Сиб. акад. гос. службы. - 6-е изд.,испр. и доп. - М. ; Новосибирск : ИНФРА-М : Сиб. соглашение,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008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- 367 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узнецов И. Н.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елопроизводство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: учебно-справочное пособие / И. Н. Кузнецов. - 3-е изд., перераб. и доп. - М. : Дашков и К*,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007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- 520 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огожин М.Ю. Делопроизводство / М. Ю. Рогожин. - М. : ИндексМедиа,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007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- 240 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7.    Организация работы с документами. Учебник для вузов. Под ред. В.А. Кудряева. – М., 2001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8.     ГОСТ Р51141-98 Делопроизводство и архивное дело: Термины и определения.– М.: Издательство стандартов, 1998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3BC39-1A55-4F8B-9BCF-5618EBDF643C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Содерж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FA0D1-D56C-4756-8F49-171AC728F2B2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ый матери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просы для самопровер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комендуемая литерату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Технологии ДОУ в соответствии с различием информационных процессов делятся на: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хнологии обработки поступающих и отправляемых документ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хнологии передачи (доведения) документной информации конечному пользователю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хнологии введения документов в информационную базу данных организации исходя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з ее внутренней структур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хнологий обработки документной информации и накопления документ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хнологии хранения и использования отдельных локальных групп документ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общие принципы организации документооборота в ЕГСД: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перативность движения документов, его целенаправленное регулирование и оптимальное осуществлени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еспечение единообразия в порядке прохождения и технологии обработки основных категорий документ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ключение инстанций прохождения и действий с документами, не обусловленных деловой необходимость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ГОСТ Р 51141 " Делопроизводство и архивное дело. Термины и определения"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406600"/>
            <a:ext cx="8229600" cy="37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документооборот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- это движение документов с момента их создания или получения до завершения исполнения: отправки и (или) направления в дело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При организации движения документов необходимо выполнение следующих правил: 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перативное прохождение документа, с наименьшими затратами времен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аксимальное сокращение инстанций прохождения документов (за счет исключения технологических операций и обработке документов и управленческих звеньев, не обусловленных деловой необходимостью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ключение или максимальное ограничение возвратных движений документов (при их обработке - регистрация и доставка, при их подготовке - визирование и согласование и т.д.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аксимальное единообразие в порядке прохождения и процессах обработки основных категорий документов, исходя из того, что каждое перемещение документа должно быть оправданны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Выделяют три основных типа документов, составляющих централизованный документооборот: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3027240"/>
            <a:ext cx="8229600" cy="30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Входящие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Исходящ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Внутрен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документопотоки различаются по направлению и по отношению к управленческому объекту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1286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 направлению выделяют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оризонтальные и вертикальные (восходящие и нисходящие) потоки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Горизонтальны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потоки связывают организации одного уровня управления,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вертикальны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— организации различных уровней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Восходящие потоки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— это документы подчиненных организаций, направляемые в вышестоящие инстанции (документы, получаемые вышестоящей орга­низацией от подчиненных организаций). Нисходящие потоки — это документы, направляемые вышестоящими органами власти и управления подчиненным организация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 отношению к управленческой системе выделяют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ходящий документопоток (документы, поступающие в организацию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сходящий документопоток (документы, отправляемые из организации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нутренний документопоток (документы, не выходящие за пределы подготовившей их организации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Входящий документопоток любой организации составляют: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238400"/>
            <a:ext cx="822960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документы вышестоящих организаций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(органов власти и управления, головных компаний и др.). Они содержат директивные указания, нормативные и методические акты, которые являются основанием для организации производственной, управленческой, технической, экономической, социальной и иной деятельности в учреждении. Основными видами документов данной группы являются законы, указы, постановления, решения, приказы, распоряжения, указания, поручения, письма, инструкции, методические указания и рекомендации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документы подведомственных организаций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, которые содержат сведения о выполнении распоряжений, запросы о методах и средствах выполнения заданий и отчетные данные об их деятельности. Этот поток состоит из таких документов, как отчеты по различным направлениям деятельности, докладные записки, письма, акты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документы от несоподчиненных организаций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, направляемые с целью согласования совместных действий или побуждения к ним, консультирования, получения или направления необходимой информации. Основные виды документов данной группы — письма (информационные, рекламные, оферты, гарантийные, запросы и др.), договоры, а также документы, сопровождающие выполнение договоров (акты, счета, заявки, сертификаты, отгрузочные документы и др.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бращения граждан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Loner-XP</cp:lastModifiedBy>
  <dcterms:modified xsi:type="dcterms:W3CDTF">2010-05-13T02:47:41Z</dcterms:modified>
  <cp:revision>133</cp:revision>
  <dc:subject/>
  <dc:title>Lecture Template </dc:title>
</cp:coreProperties>
</file>